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349064-6881-46FA-9D20-AC6ADDCB1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BC0001-2E22-4704-97A9-D58960678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189646-2551-4365-8DB8-95087FE1A4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F1117-9613-4905-8B23-C2FA647CEC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B862E-7084-4768-8C8B-41745F88E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8DD9B-B319-429F-BF64-BAFBB94BC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49CAD-B2DF-4FDC-8CA8-25CB2F942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F5683-19EE-4B12-8AB1-F014174BB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3D3A1-A56F-4A4D-BEE7-33DAC7C74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A9683-937B-4E22-A791-8F5DDEB28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4DF66-16F7-4E0B-A004-EB1D0595E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65BFE1-3A88-4D32-B474-B20C87490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F9976-AD58-402D-B746-040624478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F2939-35BC-47D0-AC18-B2482270C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ADB4B-B143-4949-9CCA-A3246E774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E2376-65E1-41CA-A679-A8A10FDD4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70DCC-67C9-48C8-9E4C-F774D75FA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A19E79-CDF1-4C97-9E67-F5C37B991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12D5F5-EB06-4DA0-B598-9C1682901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6A3A66-33BB-45DC-9034-42ECD59A2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8FD43-D359-4910-893C-C961ED0F3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F46CF-8CFB-4BAE-B67C-0426D658C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B2EED3-F2B1-44EE-B9B3-116D9D4B7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81297C-A406-4DE4-B20F-22215CDA2B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543A-CDBA-496E-8078-1FE97A77E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305E-7B37-49CC-9D0A-46CCEC0873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gramming and SQA</a:t>
            </a:r>
            <a:endParaRPr b="0" lang="en-US" sz="42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A3E19D7-9AA3-4FFA-A462-FFB91B7F14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6</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each language, or family of languages, tends to have common patterns of defects but the patterns are not the same from language-to-language</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solid empirical data that strongly-typed languages have lower defect rates than weakly-typed languages, although there is no counter evidence eith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24D024-15DD-47EA-8407-02FAD78585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7</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for all programming languages, branching errors are endemic. That is, branching to the wrong location for execution of the next code seg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34C87-9E5D-4DDD-9564-59B68A8D6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ects in High-Level Languages - 1</a:t>
            </a:r>
            <a:endParaRPr b="0" lang="en-US" sz="36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high-level languages, such as Ada and Modula, were designed to minimize certain common kinds of errors, such as mixing data types or looping incorrect number of tim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ourse, typographical errors and syntactical errors can still occur, but the more troublesome errors have to do with logic problems or incorrect algorith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A6314F-AE91-40C0-836B-624DFFEFB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ects in High-Level Languages - 2</a:t>
            </a:r>
            <a:endParaRPr b="0" lang="en-US" sz="36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mon form of error with both non-procedural and procedural languages has to do with retrieving, storing, and validating da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sometimes happen that the wrong data is reques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5E8AE8-8D28-4179-BDC3-3FA500708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ects in High-Level Languages - 3</a:t>
            </a:r>
            <a:endParaRPr b="0" lang="en-US" sz="36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in any language is a complex intellectual challenge with a high probability of making mistakes from time to tim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y with typos in a newspap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6EC0DF-ED1A-468C-99BD-21DD310359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cts in Low-Level Languages</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low-level languages often manipulate registers and require that programmers setup their own loop controls, common errors involve failure to initialize registers or going through loops the wrong number of times, not allocating space for data and subrout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akly-typed languages, mismatched data types are common erro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33CCCC-4889-41B1-8426-D8B722BF1D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ality Practices for General-Purpose Programming - 1</a:t>
            </a:r>
            <a:endParaRPr b="0" lang="en-US" sz="36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highest-level programming language possi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tegrated development environ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 a coding standard that prevents common types of def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45CDC4-9C75-4D17-9FFB-EBB01E2158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ality Practices for General-Purpose Programming - 2</a:t>
            </a:r>
            <a:endParaRPr b="0" lang="en-US" sz="36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 user interfaces and high-risk compon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critical reg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A2976B-20EA-45CE-9189-4D67AFBF0C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Highest-Level Programming Language - 1</a:t>
            </a:r>
            <a:endParaRPr b="0" lang="en-US" sz="40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written in higher-level programming languages is easier to read and mainta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fool can write code that a computer can understand. Good programmers write code that humans can understa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8991BA-2BFA-4E2A-A9C3-D4DBE4E9D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Highest-Level Programming Language - 2</a:t>
            </a:r>
            <a:endParaRPr b="0" lang="en-US" sz="40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practical factors influence the selection of a programming language</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trend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informational technology strategie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restrictions on programming language selection</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 of the development tea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of the programming language (e.g., to interoperate with external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95BE4F-A31A-44E0-9FA5-48AA54CC12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st three lectures, we have established a solid link between software design and software quality assur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991BD-AD95-4798-BC63-FA76480DFF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Highest-Level Programming Language - 3</a:t>
            </a:r>
            <a:endParaRPr b="0" lang="en-US" sz="40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xity of software systems is growing quicker than our ability to develop software solutio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productivity of computer personnel increased about 6% per year during the 1990s, whereas the growth in NASA mission software is about 25% per yea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0BD25-E8DE-41FC-A0CC-C10ED12B0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Highest-Level Programming Language - 4</a:t>
            </a: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is constant in terms of program statement size. That is writing ten lines of code in assembly language requires as much work as writing ten lines of code in C++, but the functionality developed in ten lines of C++ is much more than the ten lines of assembly language code</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hrinking the size of the programs by using higher-level langua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064B29-E1FC-456F-8AE5-FDE91733AA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Highest-Level Programming Language - 5</a:t>
            </a:r>
            <a:endParaRPr b="0" lang="en-US" sz="40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 Brooks has said that the advent of high-level programming languages had the greatest impact on software productivity because there was at least a factor of five improvement in productivity</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high-level programming languages results in more reliable softwa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46D235-93B2-418D-9B67-D0C5B0AF8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Integrated Development Environments</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IDEs, these suites include an editor, a compiler, a make utility, a profiler, and a debugger. Other tools may also be inclu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IDEs include tools to model software designs and implement graphical user interfac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ools, if used properly, can improve the productivity 100%</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help identify many coding defects, as they are being introduced in the softwa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CBE0B7-5AEE-42DE-AD78-9AC4E820B6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opt a Coding Standard to Prevent Common Types of Defects - 1</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 standards are controversial because the choice among many candidate standards is subjective and somewhat arbitr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re most useful when they support fundamental programming princip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BAFE78-188E-4ABE-8238-7125944E7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opt a Coding Standard to Prevent Common Types of Defects - 2</a:t>
            </a:r>
            <a:endParaRPr b="0" lang="en-US" sz="40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t is easier to adopt a standard for handling exceptions, than for identifying the amount of white-space to use for ind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ganization should always ask itself whether a coding standard improves program comprehension characteristic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F9C3D-5175-4942-8986-3B912E8B6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Quality Practices Related to Programing</a:t>
            </a:r>
            <a:endParaRPr b="0" lang="en-US" sz="5000" spc="-1" strike="noStrike">
              <a:solidFill>
                <a:srgbClr val="ffffff"/>
              </a:solidFill>
              <a:latin typeface="Arial"/>
            </a:endParaRPr>
          </a:p>
        </p:txBody>
      </p:sp>
      <p:sp>
        <p:nvSpPr>
          <p:cNvPr id="15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7AB06E1-29A4-45D1-A300-5B6A2CA66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 for Internal Documentation - 1</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amount of white-space that should be used and where it should appear</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and after loop statements and function definitions</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indentation level (two or four spaces have been reported as improving comprehensibility of programs)</a:t>
            </a:r>
            <a:endParaRPr b="0" lang="en-US" sz="28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ly offset code comments from code when contained on the same li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2B17B9-E6E4-4AC5-8841-4258953E1F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Internal Documentation - 2</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mments to explain each class, function, and variable contained in source code. (Comments can be from 10% and up)</a:t>
            </a:r>
            <a:endParaRPr b="0" lang="en-US" sz="32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teractions that a function has with other functions and global variables</a:t>
            </a:r>
            <a:endParaRPr b="0" lang="en-US" sz="28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algorithms used by every function</a:t>
            </a:r>
            <a:endParaRPr b="0" lang="en-US" sz="28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handling</a:t>
            </a:r>
            <a:endParaRPr b="0" lang="en-US" sz="2800" spc="-1" strike="noStrike">
              <a:solidFill>
                <a:srgbClr val="000000"/>
              </a:solidFill>
              <a:latin typeface="Arial"/>
            </a:endParaRPr>
          </a:p>
          <a:p>
            <a:pPr lvl="1" marL="698400" indent="-2685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and effect of iterative control flow statements and interior block state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FF8D05-02B5-403D-AEB3-53C94AFB5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Internal Documentation - 3</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working examples in the user documentation or tutorial materi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BC2454-C13D-4DE2-90CB-3159E99122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and software quality assur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FDE08-EE71-4E2D-AF61-58C266981C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Variable Definition - 1</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e variables as specifically as possible and initialize them, preferably one declaration per lin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similarly named variables within the same lexical scop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ly, use clear and easily remembered names for variables, classes, and fun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50E39B-D4ED-4EBC-BC05-C225EF7DA8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s for Variable Definition - 2</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a uniform scheme when abbreviating nam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local declarations to hide declarations at greater scop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use a variable for more than one purpo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8039D0-D237-45B1-A9AA-86BD11A067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for Control Flow</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assume a default behavior for multi-way branch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alter the value of an iteration variable within a loo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cursion, when applicab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AC9B7-D112-4A06-A009-9F29A2BBBC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for Function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ly define input and output formal parameter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ssertions (e.g., pre- and post-conditions) to verify the accuracy and correctness of input and output formal parameters. The use of pre- and post-conditions helps programmers detect defects closer to their origin</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232126-A491-4346-AA00-F6F5FE531F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for Operations</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ll conversion of data explicit, especially numeric da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exact floating-point comparison oper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ing operators in potentially ambiguous situ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568FA8-38D6-4117-8026-62E2407AA9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for Exception Handling</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ll exceptions so that personnel can more easily detect their cau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important system events, including excep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C7E98F-73F9-4804-852A-1B7DEA800F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for Maintenance</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e the use of nonstandard language fun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e complex operations to individual fun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15E30D-6D26-470D-B410-C067E7CEC6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for Operational</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permit any compilation to produce warn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ize software only after it works is complete, and only if required to achieve performance go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7C4527-1987-4509-A545-D5B920F929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type User Interfaces and High-Risk Components</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interface prototyping helps identify necessary features that software engineers might otherwise overlook</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can reduce the development effort significantly</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reduces development risk because is allows programmers to explore methods for achieving performance and other high-risk require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DEF136-68B3-482A-A7A5-6D5BF157AB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Critical Regions</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sk that interrupts an interdependent operational sequence before it is completed can leave a program in a vulnerable state, resulting in inconsistent and inaccurate results. We need a critical regions to run such transa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gions help prevent deadloc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0ABE60-E658-484A-A0C2-3042DAD5E7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programming, also known as coding, produces the primary products – executables – of a software development effor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ior activities culminate in their developme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is done in a programming langu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C3F21B-32F9-463F-AAC0-B2A8123D38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alked about quality assurance aspects as they relate to programm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44F64B-BF80-43C5-A958-B1CB04C1E5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Engineering Quality Practices by Ronald K. Kandt (Ch. 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39AB7D-D1B8-4A63-8FDA-7DF27826CA82}"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1</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our categories of defects are found in source code</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of commiss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of omiss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of ambiguity and clarity</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of speed and capacity</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commission are the most common when the code is underdevelop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8BAB0A-7380-4463-AFCD-D6C3257CA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2</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surprising aspect of coding defects is that more than fifty (50) percent of the serious bugs or errors found in the source code did not truly originate in the source cod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ity of the so-called programming errors are really due to the programmer not understanding the design or a design not correctly interpreting a requir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DAF362-C996-4C4C-B2E2-9F0216E1E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3</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s one of the most difficult products in human history to visualize prior to having to build it, although complex electronic circuits have the same characterist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A82F49-F528-47E8-8074-EC238D8357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4</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in syntax checkers and editors with modern programming languages have the capacity to find many “true” programming errors such as missed parentheses or looping problem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lso have the capacity to measure and correct poor structure and excessive branch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27098-0201-48B6-A6EC-7535F7AB8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Defects - 5</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ds of errors that are not easily found are deeper problems in algorithms or those associated with misinterpretation of design</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five hundred (500) programming languages are in use, and the characteristics of the languages themselves interact with factors such as human attention spans and capacities of temporary memo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6404AE-BF42-4718-80C6-9FC694C34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17:13:44Z</dcterms:created>
  <dc:creator>Ghulam Ahmad Farrukh</dc:creator>
  <dc:description/>
  <dc:language>en-US</dc:language>
  <cp:lastModifiedBy>ahmadmohsin</cp:lastModifiedBy>
  <dcterms:modified xsi:type="dcterms:W3CDTF">2009-04-17T09:51:14Z</dcterms:modified>
  <cp:revision>287</cp:revision>
  <dc:subject/>
  <dc:title>Software Design and Quality Assurance</dc:title>
</cp:coreProperties>
</file>